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3.png" ContentType="image/png"/>
  <Override PartName="/ppt/media/image9.gif" ContentType="image/gif"/>
  <Override PartName="/ppt/media/image16.gif" ContentType="image/gif"/>
  <Override PartName="/ppt/media/image14.gif" ContentType="image/gif"/>
  <Override PartName="/ppt/media/image5.png" ContentType="image/png"/>
  <Override PartName="/ppt/media/chimes.wav" ContentType="audio/x-wav"/>
  <Override PartName="/ppt/media/image8.png" ContentType="image/png"/>
  <Override PartName="/ppt/media/image1.gif" ContentType="image/gif"/>
  <Override PartName="/ppt/media/image12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6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65A-CA19-44AC-8572-BA6F567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B45-E7E4-4BB6-ADC4-8768092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BD0-E618-4622-AA3F-1BCBF44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017-6AB4-4CA4-9682-75F166B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F70-9435-4526-80B0-E00CF65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488-52A0-4460-8552-51236D0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0DD-D69C-4E66-99B4-80420E1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928-C27D-4ECC-9772-315F2325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1F0-397E-47D7-8A0C-E84CD2A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78-4B97-4F30-B5F0-251F1DE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1ED-4D49-4EDD-B67B-823E66A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FB6-96E1-4E6C-8599-9D16E2E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55FF-3677-4944-99F3-9F83FD66A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600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23.2  </a:t>
            </a:r>
            <a:r>
              <a:rPr b="0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中心对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71800" y="3123720"/>
            <a:ext cx="557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23. 2. 3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行楷"/>
              </a:rPr>
              <a:t>关于原点对称的点的坐标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3.33333E-006 3.33333E-006 L -1 3.33333E-006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81360" y="-209520"/>
            <a:ext cx="2748960" cy="2119320"/>
            <a:chOff x="-81360" y="-209520"/>
            <a:chExt cx="2748960" cy="2119320"/>
          </a:xfrm>
        </p:grpSpPr>
        <p:sp>
          <p:nvSpPr>
            <p:cNvPr id="140" name=""/>
            <p:cNvSpPr/>
            <p:nvPr/>
          </p:nvSpPr>
          <p:spPr>
            <a:xfrm rot="413400">
              <a:off x="19080" y="-63000"/>
              <a:ext cx="2548080" cy="1827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757000">
              <a:off x="255240" y="55260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728800" y="9133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材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页的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53360" y="0"/>
            <a:ext cx="1790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360" y="0"/>
            <a:ext cx="9144360" cy="2971800"/>
            <a:chOff x="-360" y="0"/>
            <a:chExt cx="9144360" cy="2971800"/>
          </a:xfrm>
        </p:grpSpPr>
        <p:sp>
          <p:nvSpPr>
            <p:cNvPr id="145" name=""/>
            <p:cNvSpPr txBox="1"/>
            <p:nvPr/>
          </p:nvSpPr>
          <p:spPr>
            <a:xfrm>
              <a:off x="2743200" y="838080"/>
              <a:ext cx="3456000" cy="1079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课堂小结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8002440" y="0"/>
              <a:ext cx="114156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 flipH="1">
              <a:off x="-360" y="0"/>
              <a:ext cx="114156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676520" y="2714040"/>
            <a:ext cx="5638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本节课应掌握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两个点关于原点对称时，它们的坐标符号相反，即点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P(x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y)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关于原点的对称点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P′(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－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，－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y)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，及利用这些特点解决一些实际问题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 rot="19938000">
            <a:off x="228240" y="456840"/>
            <a:ext cx="26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堂训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69080" y="36972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6400800" cy="1708200"/>
            <a:chOff x="0" y="0"/>
            <a:chExt cx="6400800" cy="17082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372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3048120" y="457200"/>
              <a:ext cx="33526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学习目标</a:t>
              </a:r>
              <a:endPara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447920" y="2837160"/>
            <a:ext cx="65530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cc3300"/>
                </a:solidFill>
                <a:latin typeface="华文行楷"/>
                <a:ea typeface="华文行楷"/>
              </a:rPr>
              <a:t>掌握两个点关于原点对称时的坐标特征，能够运用特征解决相关问题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271160" y="12186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自学指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51280" y="2056320"/>
            <a:ext cx="25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学课本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页的内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894400"/>
            <a:ext cx="789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思考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关于原点作中心对称时，①它们的横坐标与横坐标绝对值什么关系？纵坐标与纵坐标的绝对值又有什么关系？②坐标与坐标之间符号又有什么特点？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9787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探究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两个点关于原点对称，它们的坐标符号相反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即点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P(x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y)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关于原点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的对称点的坐标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P′(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flipH="1">
            <a:off x="7009920" y="0"/>
            <a:ext cx="21337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22680" y="3042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自学检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2280" y="1067760"/>
            <a:ext cx="829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，在直角坐标系中，已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(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(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(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作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关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中心对称点，并写出它们的坐标，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坐标与已知点的坐标有什么关系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581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1880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点关于原点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对称点分别为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′(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′(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0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′(0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′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′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′(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8840" y="556236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这些点的横纵坐标与已知点的横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坐标互为相反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943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学科网(www.zxxk.com)--国内最大的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4267080" y="3581280"/>
            <a:ext cx="3353040" cy="289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4560" y="1142640"/>
            <a:ext cx="280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，利用关于原点对称的点的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的特点，作出与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于原点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的图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学科网(www.zxxk.com)--国内最大的教育资源门户，提供试卷、教案、课件、论文、素材及各类教学资源下载，还有大量而丰富的教学相关资讯！"/>
          <p:cNvPicPr/>
          <p:nvPr/>
        </p:nvPicPr>
        <p:blipFill>
          <a:blip r:embed="rId3"/>
          <a:stretch/>
        </p:blipFill>
        <p:spPr>
          <a:xfrm>
            <a:off x="5105520" y="380880"/>
            <a:ext cx="3124080" cy="281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26668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3670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三个顶点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（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关于原点的对称点分别为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(2,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(4,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 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,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依次连接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就可得到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关于原点对称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，如右下图所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81360" y="-209520"/>
            <a:ext cx="2748960" cy="2119320"/>
            <a:chOff x="-81360" y="-209520"/>
            <a:chExt cx="2748960" cy="2119320"/>
          </a:xfrm>
        </p:grpSpPr>
        <p:sp>
          <p:nvSpPr>
            <p:cNvPr id="74" name=""/>
            <p:cNvSpPr/>
            <p:nvPr/>
          </p:nvSpPr>
          <p:spPr>
            <a:xfrm rot="413400">
              <a:off x="19080" y="-63000"/>
              <a:ext cx="2548080" cy="1827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757000">
              <a:off x="255240" y="55260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95640" y="7614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523880"/>
            <a:ext cx="7162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轴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轴分别相交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点，将直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得到直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251136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36560" y="2554560"/>
            <a:ext cx="22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图中画出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9000" y="3164400"/>
            <a:ext cx="374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求出过线段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中点的反比例函数解析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311000"/>
            <a:ext cx="45720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是否存在另一条与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平行的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=kx+b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我们发现互相平行的两条直线斜率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值相等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它与双曲线只有一个交点，若存在，求此直线的函数解析式，若不存在，请说明理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米老鼠"/>
          <p:cNvPicPr/>
          <p:nvPr/>
        </p:nvPicPr>
        <p:blipFill>
          <a:blip r:embed="rId2"/>
          <a:stretch/>
        </p:blipFill>
        <p:spPr>
          <a:xfrm>
            <a:off x="7520040" y="0"/>
            <a:ext cx="1623960" cy="1590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6599160"/>
            <a:ext cx="84582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60240" y="892440"/>
            <a:ext cx="22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图中画出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81360" y="-209520"/>
            <a:ext cx="2748960" cy="2119320"/>
            <a:chOff x="-81360" y="-209520"/>
            <a:chExt cx="2748960" cy="2119320"/>
          </a:xfrm>
        </p:grpSpPr>
        <p:sp>
          <p:nvSpPr>
            <p:cNvPr id="86" name=""/>
            <p:cNvSpPr/>
            <p:nvPr/>
          </p:nvSpPr>
          <p:spPr>
            <a:xfrm rot="413400">
              <a:off x="19080" y="-63000"/>
              <a:ext cx="2548080" cy="1827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757000">
              <a:off x="255240" y="55260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941920" cy="312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712680" y="1502280"/>
            <a:ext cx="374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求出过线段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中点的反比例函数解析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2240" y="2692440"/>
            <a:ext cx="2362320" cy="1447920"/>
            <a:chOff x="1092240" y="2692440"/>
            <a:chExt cx="2362320" cy="1447920"/>
          </a:xfrm>
        </p:grpSpPr>
        <p:sp>
          <p:nvSpPr>
            <p:cNvPr id="91" name=""/>
            <p:cNvSpPr/>
            <p:nvPr/>
          </p:nvSpPr>
          <p:spPr>
            <a:xfrm flipH="1" flipV="1">
              <a:off x="1092240" y="2692440"/>
              <a:ext cx="236232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r>
                <a:rPr b="1" lang="zh-CN" sz="1800" spc="-1" strike="noStrike" baseline="-25000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3200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r>
                <a:rPr b="1" lang="zh-CN" sz="1800" spc="-1" strike="noStrike" baseline="-25000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53360" y="0"/>
            <a:ext cx="17906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505320" y="3581280"/>
            <a:ext cx="4724280" cy="2055960"/>
            <a:chOff x="3505320" y="3581280"/>
            <a:chExt cx="4724280" cy="2055960"/>
          </a:xfrm>
        </p:grpSpPr>
        <p:sp>
          <p:nvSpPr>
            <p:cNvPr id="96" name=""/>
            <p:cNvSpPr/>
            <p:nvPr/>
          </p:nvSpPr>
          <p:spPr>
            <a:xfrm>
              <a:off x="3505320" y="3581280"/>
              <a:ext cx="4724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Arial"/>
                </a:rPr>
                <a:t>解（</a:t>
              </a:r>
              <a:r>
                <a:rPr b="0" lang="zh-CN" sz="18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ff0066"/>
                  </a:solidFill>
                  <a:latin typeface="Arial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由题意可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1B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中点坐标为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设反比例函数解析式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=          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k=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所以反比例函数解析式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=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324480" y="4724280"/>
                  <a:ext cx="2365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553080" y="5105520"/>
                  <a:ext cx="378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3505320" y="2514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解（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1905120"/>
            <a:ext cx="3072960" cy="3124080"/>
            <a:chOff x="0" y="1905120"/>
            <a:chExt cx="3072960" cy="31240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294156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711000" y="2768400"/>
              <a:ext cx="2361960" cy="1447560"/>
              <a:chOff x="711000" y="2768400"/>
              <a:chExt cx="2361960" cy="1447560"/>
            </a:xfrm>
          </p:grpSpPr>
          <p:sp>
            <p:nvSpPr>
              <p:cNvPr id="103" name=""/>
              <p:cNvSpPr/>
              <p:nvPr/>
            </p:nvSpPr>
            <p:spPr>
              <a:xfrm flipH="1" flipV="1">
                <a:off x="711000" y="2768400"/>
                <a:ext cx="2361960" cy="1447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76520" y="30481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Arial"/>
                  </a:rPr>
                  <a:t>A</a:t>
                </a:r>
                <a:r>
                  <a:rPr b="1" lang="zh-CN" sz="1800" spc="-1" strike="noStrike" baseline="-25000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32767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Arial"/>
                  </a:rPr>
                  <a:t>B</a:t>
                </a:r>
                <a:r>
                  <a:rPr b="1" lang="zh-CN" sz="1800" spc="-1" strike="noStrike" baseline="-25000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228600" y="5335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是否存在另一条与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1B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平行的直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=kx+b(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我们发现互相平行的两条直线斜率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值相等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它与双曲线只有一个交点，若存在，求此直线的函数解析式，若不存在，请说明理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657600" y="1676520"/>
            <a:ext cx="5029200" cy="6209640"/>
            <a:chOff x="3657600" y="1676520"/>
            <a:chExt cx="5029200" cy="6209640"/>
          </a:xfrm>
        </p:grpSpPr>
        <p:sp>
          <p:nvSpPr>
            <p:cNvPr id="110" name=""/>
            <p:cNvSpPr/>
            <p:nvPr/>
          </p:nvSpPr>
          <p:spPr>
            <a:xfrm>
              <a:off x="4699080" y="2692440"/>
              <a:ext cx="75960" cy="4572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1676520"/>
              <a:ext cx="5029200" cy="6209640"/>
              <a:chOff x="3657600" y="1676520"/>
              <a:chExt cx="5029200" cy="6209640"/>
            </a:xfrm>
          </p:grpSpPr>
          <p:sp>
            <p:nvSpPr>
              <p:cNvPr id="112" name=""/>
              <p:cNvSpPr/>
              <p:nvPr/>
            </p:nvSpPr>
            <p:spPr>
              <a:xfrm>
                <a:off x="3657600" y="1676520"/>
                <a:ext cx="5029200" cy="620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Arial"/>
                  </a:rPr>
                  <a:t>解：（</a:t>
                </a:r>
                <a:r>
                  <a:rPr b="0" lang="zh-CN" sz="18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ff0066"/>
                    </a:solidFill>
                    <a:latin typeface="Arial"/>
                  </a:rPr>
                  <a:t>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存在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设所求直线解析式为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=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+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由题意得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=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+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即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+b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有唯一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zh-CN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-2bx+1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-4=(-2b)</a:t>
                </a:r>
                <a:r>
                  <a:rPr b="0" lang="zh-CN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-4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B=±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=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 ±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6248520" y="2058480"/>
                    <a:ext cx="152280" cy="39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5181480" y="2516760"/>
                    <a:ext cx="228600" cy="39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5410080" y="2898720"/>
                    <a:ext cx="152640" cy="39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4114800" y="3357360"/>
                    <a:ext cx="228600" cy="39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4800600" y="3309840"/>
                    <a:ext cx="15228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4495680" y="4962240"/>
                    <a:ext cx="15264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81360" y="-209520"/>
            <a:ext cx="2748960" cy="2119320"/>
            <a:chOff x="-81360" y="-209520"/>
            <a:chExt cx="2748960" cy="2119320"/>
          </a:xfrm>
        </p:grpSpPr>
        <p:sp>
          <p:nvSpPr>
            <p:cNvPr id="120" name=""/>
            <p:cNvSpPr/>
            <p:nvPr/>
          </p:nvSpPr>
          <p:spPr>
            <a:xfrm rot="413400">
              <a:off x="19080" y="-63000"/>
              <a:ext cx="2548080" cy="1827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757000">
              <a:off x="255240" y="55260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532320" y="7614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568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知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(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关于原点对称的点的坐标的特点，作出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于原点对称的图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3733920" cy="3441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22360" y="303516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828440" y="3429000"/>
            <a:ext cx="7621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0481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47920" y="5105520"/>
            <a:ext cx="2057400" cy="1206360"/>
            <a:chOff x="1447920" y="5105520"/>
            <a:chExt cx="2057400" cy="1206360"/>
          </a:xfrm>
        </p:grpSpPr>
        <p:sp>
          <p:nvSpPr>
            <p:cNvPr id="132" name=""/>
            <p:cNvSpPr/>
            <p:nvPr/>
          </p:nvSpPr>
          <p:spPr>
            <a:xfrm>
              <a:off x="14479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4600" y="5334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9436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8800" y="5257800"/>
              <a:ext cx="76212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5638680"/>
              <a:ext cx="380880" cy="38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8800" y="5257800"/>
              <a:ext cx="1143000" cy="7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53360" y="0"/>
            <a:ext cx="1790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2T05:31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